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3FF-F6E9-45F0-9E7A-8AD3D040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D5CA-DD54-43EB-B227-4AF5A8D9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B1E-C2DB-48DC-8618-26E001D0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512-7916-4BBD-9A1C-88554A03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6BF-432B-4C9F-BD2D-B93FCF5B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3567-B76F-4D19-9FD6-C52FEEFC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6CA-4BC2-4F04-8324-E9C6CB4D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F95D-413F-442F-867C-5DE19821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D40C-E3A1-403A-A21F-AACE730B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A71C-0F06-4FFF-B798-68D411C8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458B-FE32-4E17-A409-D1050424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FD6D-8E0A-451C-BAE5-869829A7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2B12-89EA-4633-8215-F9AAC8BB5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916360" y="549360"/>
            <a:ext cx="28080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PARTIMENTO INFERMIERISTICO ED OSTE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4"/>
          <p:cNvSpPr/>
          <p:nvPr/>
        </p:nvSpPr>
        <p:spPr>
          <a:xfrm>
            <a:off x="468360" y="4508640"/>
            <a:ext cx="2879640" cy="642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Mincho"/>
              </a:rPr>
              <a:t>UOC Dimissioni e Continuità assisten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4"/>
          <p:cNvSpPr/>
          <p:nvPr/>
        </p:nvSpPr>
        <p:spPr>
          <a:xfrm>
            <a:off x="4211640" y="4508640"/>
            <a:ext cx="2879640" cy="1339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Mincho"/>
              </a:rPr>
              <a:t>UOC Professioni Ostetr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84720" y="155736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3068640"/>
            <a:ext cx="2376360" cy="862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Ospedal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51640" y="3141720"/>
            <a:ext cx="2016000" cy="862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Territo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08000" y="278928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2789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04000" y="2789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84720" y="27813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422100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0800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400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5300640"/>
            <a:ext cx="17272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OS Percorso gravidanza fisiolog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7164360" y="4221000"/>
            <a:ext cx="180036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Mincho"/>
              </a:rPr>
              <a:t>UOC Gestione infermieristica sanità penitenzi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67640" y="3500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459640" y="3500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83440" y="404640"/>
            <a:ext cx="19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LL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9280" y="476280"/>
            <a:ext cx="8785440" cy="6192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3059280" y="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REA OSPEDAL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5"/>
          <p:cNvSpPr/>
          <p:nvPr/>
        </p:nvSpPr>
        <p:spPr>
          <a:xfrm>
            <a:off x="395280" y="2205000"/>
            <a:ext cx="1009800" cy="3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5"/>
          <p:cNvSpPr/>
          <p:nvPr/>
        </p:nvSpPr>
        <p:spPr>
          <a:xfrm>
            <a:off x="2050920" y="2276640"/>
            <a:ext cx="1009800" cy="36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5"/>
          <p:cNvSpPr/>
          <p:nvPr/>
        </p:nvSpPr>
        <p:spPr>
          <a:xfrm>
            <a:off x="3564000" y="2276640"/>
            <a:ext cx="1009440" cy="36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5"/>
          <p:cNvSpPr/>
          <p:nvPr/>
        </p:nvSpPr>
        <p:spPr>
          <a:xfrm>
            <a:off x="5003640" y="2276640"/>
            <a:ext cx="1009800" cy="36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5"/>
          <p:cNvSpPr/>
          <p:nvPr/>
        </p:nvSpPr>
        <p:spPr>
          <a:xfrm>
            <a:off x="6443640" y="2276640"/>
            <a:ext cx="1009800" cy="36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5"/>
          <p:cNvSpPr/>
          <p:nvPr/>
        </p:nvSpPr>
        <p:spPr>
          <a:xfrm>
            <a:off x="7740720" y="2276640"/>
            <a:ext cx="1009440" cy="36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5"/>
          <p:cNvSpPr/>
          <p:nvPr/>
        </p:nvSpPr>
        <p:spPr>
          <a:xfrm>
            <a:off x="2050920" y="4005360"/>
            <a:ext cx="1009800" cy="36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5"/>
          <p:cNvSpPr/>
          <p:nvPr/>
        </p:nvSpPr>
        <p:spPr>
          <a:xfrm>
            <a:off x="3564000" y="4005360"/>
            <a:ext cx="1009440" cy="36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5"/>
          <p:cNvSpPr/>
          <p:nvPr/>
        </p:nvSpPr>
        <p:spPr>
          <a:xfrm>
            <a:off x="5003640" y="3068640"/>
            <a:ext cx="1009800" cy="3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5"/>
          <p:cNvSpPr/>
          <p:nvPr/>
        </p:nvSpPr>
        <p:spPr>
          <a:xfrm>
            <a:off x="6443640" y="5373720"/>
            <a:ext cx="1009800" cy="3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5"/>
          <p:cNvSpPr/>
          <p:nvPr/>
        </p:nvSpPr>
        <p:spPr>
          <a:xfrm>
            <a:off x="7740720" y="4581360"/>
            <a:ext cx="1009440" cy="3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5"/>
          <p:cNvSpPr/>
          <p:nvPr/>
        </p:nvSpPr>
        <p:spPr>
          <a:xfrm>
            <a:off x="395280" y="3933720"/>
            <a:ext cx="1184400" cy="40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5"/>
          <p:cNvSpPr/>
          <p:nvPr/>
        </p:nvSpPr>
        <p:spPr>
          <a:xfrm>
            <a:off x="2050920" y="5300640"/>
            <a:ext cx="100980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5"/>
          <p:cNvSpPr/>
          <p:nvPr/>
        </p:nvSpPr>
        <p:spPr>
          <a:xfrm>
            <a:off x="2050920" y="3068640"/>
            <a:ext cx="100980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5"/>
          <p:cNvSpPr/>
          <p:nvPr/>
        </p:nvSpPr>
        <p:spPr>
          <a:xfrm>
            <a:off x="2050920" y="4508640"/>
            <a:ext cx="100980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3564000" y="3068640"/>
            <a:ext cx="100944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5"/>
          <p:cNvSpPr/>
          <p:nvPr/>
        </p:nvSpPr>
        <p:spPr>
          <a:xfrm>
            <a:off x="6443640" y="3068640"/>
            <a:ext cx="100980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"/>
          <p:cNvSpPr/>
          <p:nvPr/>
        </p:nvSpPr>
        <p:spPr>
          <a:xfrm>
            <a:off x="395280" y="4581360"/>
            <a:ext cx="1184400" cy="33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5"/>
          <p:cNvSpPr/>
          <p:nvPr/>
        </p:nvSpPr>
        <p:spPr>
          <a:xfrm>
            <a:off x="395280" y="5373720"/>
            <a:ext cx="1009800" cy="34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5"/>
          <p:cNvSpPr/>
          <p:nvPr/>
        </p:nvSpPr>
        <p:spPr>
          <a:xfrm>
            <a:off x="3564000" y="4508640"/>
            <a:ext cx="1009440" cy="34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5"/>
          <p:cNvSpPr/>
          <p:nvPr/>
        </p:nvSpPr>
        <p:spPr>
          <a:xfrm>
            <a:off x="5003640" y="4005360"/>
            <a:ext cx="1009800" cy="34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5"/>
          <p:cNvSpPr/>
          <p:nvPr/>
        </p:nvSpPr>
        <p:spPr>
          <a:xfrm>
            <a:off x="6443640" y="4005360"/>
            <a:ext cx="1009800" cy="34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5"/>
          <p:cNvSpPr/>
          <p:nvPr/>
        </p:nvSpPr>
        <p:spPr>
          <a:xfrm>
            <a:off x="7740720" y="3933720"/>
            <a:ext cx="1009440" cy="34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907920"/>
            <a:ext cx="777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90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84360" y="90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98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90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59640" y="90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532720" y="90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5280" y="1197000"/>
          <a:ext cx="1224000" cy="39528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OC Ospedale Livor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492360" y="1268280"/>
          <a:ext cx="1009800" cy="547920"/>
        </p:xfrm>
        <a:graphic>
          <a:graphicData uri="http://schemas.openxmlformats.org/drawingml/2006/table">
            <a:tbl>
              <a:tblPr/>
              <a:tblGrid>
                <a:gridCol w="1009800"/>
              </a:tblGrid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OC Ospedale Mas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372360" y="1197000"/>
          <a:ext cx="1009440" cy="547560"/>
        </p:xfrm>
        <a:graphic>
          <a:graphicData uri="http://schemas.openxmlformats.org/drawingml/2006/table">
            <a:tbl>
              <a:tblPr/>
              <a:tblGrid>
                <a:gridCol w="1009440"/>
              </a:tblGrid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OC Ospedale Viaregg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979640" y="1197000"/>
          <a:ext cx="1081080" cy="39528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OC Ospedale Ponted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859280" y="1341360"/>
          <a:ext cx="1297080" cy="395280"/>
        </p:xfrm>
        <a:graphic>
          <a:graphicData uri="http://schemas.openxmlformats.org/drawingml/2006/table">
            <a:tbl>
              <a:tblPr/>
              <a:tblGrid>
                <a:gridCol w="129708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OC Ospedale Luc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7524720" y="1197000"/>
          <a:ext cx="1333080" cy="404640"/>
        </p:xfrm>
        <a:graphic>
          <a:graphicData uri="http://schemas.openxmlformats.org/drawingml/2006/table">
            <a:tbl>
              <a:tblPr/>
              <a:tblGrid>
                <a:gridCol w="1333080"/>
              </a:tblGrid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OC Ospedale Cecina/Piombi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 Box 35"/>
          <p:cNvSpPr/>
          <p:nvPr/>
        </p:nvSpPr>
        <p:spPr>
          <a:xfrm>
            <a:off x="395280" y="2997360"/>
            <a:ext cx="1009800" cy="36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5"/>
          <p:cNvSpPr/>
          <p:nvPr/>
        </p:nvSpPr>
        <p:spPr>
          <a:xfrm>
            <a:off x="7740720" y="3068640"/>
            <a:ext cx="1009440" cy="3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3635280" y="5373720"/>
            <a:ext cx="1009800" cy="34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5076720" y="5373720"/>
            <a:ext cx="1009800" cy="34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7812000" y="5373720"/>
            <a:ext cx="1009800" cy="34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5"/>
          <p:cNvSpPr/>
          <p:nvPr/>
        </p:nvSpPr>
        <p:spPr>
          <a:xfrm>
            <a:off x="5003640" y="4508640"/>
            <a:ext cx="1009800" cy="43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6443640" y="4581360"/>
            <a:ext cx="1009800" cy="34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1413000"/>
            <a:ext cx="0" cy="40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844640"/>
            <a:ext cx="8569440" cy="289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PERCORSO DIP. SPECIALITA’ MEDICHE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1557360"/>
            <a:ext cx="0" cy="381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1628640"/>
            <a:ext cx="0" cy="36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564000" y="1844640"/>
            <a:ext cx="1440" cy="360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40720" y="1628640"/>
            <a:ext cx="0" cy="388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1700280"/>
            <a:ext cx="0" cy="367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1773360"/>
            <a:ext cx="0" cy="36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2637000"/>
            <a:ext cx="8569440" cy="288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PERCORSO DIP. SPECIALITA’ CHIRURGICHE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3500280"/>
            <a:ext cx="8569440" cy="289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PERCORSO DIP. EMRGENZA ED URGENZA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5013360"/>
            <a:ext cx="8569080" cy="288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PERCORSO DIP. MATERNO INFANTILE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80520" y="5950080"/>
            <a:ext cx="574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*Per ogni percorso verrà individuato 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referente tra i direttori delle unità operative di presidio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280" y="692280"/>
            <a:ext cx="8785440" cy="5976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843280" y="18900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REA TERRITO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05264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0920" y="10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10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2720" y="10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8360" y="10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0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1484280"/>
          <a:ext cx="1368360" cy="93672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936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OC Zone Distretto Alta Val di Cecina, Val d'Era e Ospedale di Volter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924360" y="1341360"/>
          <a:ext cx="1008000" cy="1157400"/>
        </p:xfrm>
        <a:graphic>
          <a:graphicData uri="http://schemas.openxmlformats.org/drawingml/2006/table">
            <a:tbl>
              <a:tblPr/>
              <a:tblGrid>
                <a:gridCol w="1008000"/>
              </a:tblGrid>
              <a:tr h="115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OC Zone Distretto Elba, Val di Cornia,Bassa Val Cecina e Ospedale di Portoferra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763640" y="1413000"/>
          <a:ext cx="1042920" cy="1157040"/>
        </p:xfrm>
        <a:graphic>
          <a:graphicData uri="http://schemas.openxmlformats.org/drawingml/2006/table">
            <a:tbl>
              <a:tblPr/>
              <a:tblGrid>
                <a:gridCol w="1042920"/>
              </a:tblGrid>
              <a:tr h="115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OC Zone Distretto Lunigiana, apuane/ ospedale di Pontremoli e Fivizzan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7308720" y="1413000"/>
          <a:ext cx="1474920" cy="852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855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OC Zone Distretto Piana di Lucca, Valle del Serchio e Ospedale Barga/Castelnuo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916360" y="1484280"/>
          <a:ext cx="863640" cy="547560"/>
        </p:xfrm>
        <a:graphic>
          <a:graphicData uri="http://schemas.openxmlformats.org/drawingml/2006/table">
            <a:tbl>
              <a:tblPr/>
              <a:tblGrid>
                <a:gridCol w="863640"/>
              </a:tblGrid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OS Zona Distretto Versi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227640" y="1484280"/>
          <a:ext cx="1008360" cy="547560"/>
        </p:xfrm>
        <a:graphic>
          <a:graphicData uri="http://schemas.openxmlformats.org/drawingml/2006/table">
            <a:tbl>
              <a:tblPr/>
              <a:tblGrid>
                <a:gridCol w="1008360"/>
              </a:tblGrid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OC Zona Distretto Livor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076720" y="1484280"/>
          <a:ext cx="1079280" cy="62028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620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OS Zona Distretto Pi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5651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5"/>
          <p:cNvSpPr/>
          <p:nvPr/>
        </p:nvSpPr>
        <p:spPr>
          <a:xfrm>
            <a:off x="324000" y="3716280"/>
            <a:ext cx="1079280" cy="58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istretto V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324000" y="4365720"/>
            <a:ext cx="122364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AVC ( ospedale e territori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2276640"/>
            <a:ext cx="0" cy="1439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2421000"/>
            <a:ext cx="0" cy="115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95640" y="2421000"/>
            <a:ext cx="0" cy="12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2492280"/>
            <a:ext cx="0" cy="1297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56720" y="2276640"/>
            <a:ext cx="0" cy="136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5"/>
          <p:cNvSpPr/>
          <p:nvPr/>
        </p:nvSpPr>
        <p:spPr>
          <a:xfrm>
            <a:off x="1619280" y="4653000"/>
            <a:ext cx="1512720" cy="72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unigiana (ospedale e territori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1692360" y="3716280"/>
            <a:ext cx="122400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  distretto APUA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3924360" y="3789360"/>
            <a:ext cx="10792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istretto Val di Cor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5"/>
          <p:cNvSpPr/>
          <p:nvPr/>
        </p:nvSpPr>
        <p:spPr>
          <a:xfrm>
            <a:off x="3924360" y="4581360"/>
            <a:ext cx="1079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istretto Bassa val di Cec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3924360" y="5445000"/>
            <a:ext cx="129708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Elba  (ospedale e territori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5"/>
          <p:cNvSpPr/>
          <p:nvPr/>
        </p:nvSpPr>
        <p:spPr>
          <a:xfrm>
            <a:off x="7451640" y="4797360"/>
            <a:ext cx="11527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Valle del Serch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 ospedale e territori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5"/>
          <p:cNvSpPr/>
          <p:nvPr/>
        </p:nvSpPr>
        <p:spPr>
          <a:xfrm>
            <a:off x="7308720" y="3645000"/>
            <a:ext cx="136872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sizione Org.v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istretto Piana di Luc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476280"/>
            <a:ext cx="8785440" cy="6192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1341360"/>
            <a:ext cx="779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l quadro della micro organizzazione presentato, che individua posizioni organizzative per l’area ospedaliera e territoriale, è da intendersi non esaustivo e con successivi  e separati atti di definizione organizzativa verrà completato il quadro organizz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9T20:45:37Z</dcterms:created>
  <dc:creator>chpini</dc:creator>
  <dc:description/>
  <dc:language>en-US</dc:language>
  <cp:lastModifiedBy>f.mignoni</cp:lastModifiedBy>
  <dcterms:modified xsi:type="dcterms:W3CDTF">2017-06-14T11:01:14Z</dcterms:modified>
  <cp:revision>98</cp:revision>
  <dc:subject/>
  <dc:title>Diapositiva 1</dc:title>
</cp:coreProperties>
</file>